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336-7033-432E-A0B9-9817ABF5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192-D68E-4EE9-ADA5-3B8D497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B36-AE81-46BA-B04B-5922D00C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F5D-F74B-40D1-829A-00C3C0A5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315-78C6-4AAB-835E-D91B902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F38-27CD-4134-9CC4-F89F049C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765-3B9E-4CC6-BB3F-20856A3B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F38-A55C-4F94-A13F-42BE663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900-2E39-41B2-AFFB-80A0B4F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FD9-7764-4DF1-8FA4-67A7797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E8C-EA0D-4A9F-AD97-FC13791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FE8-9C1A-485E-ABCF-B59A65F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0CAF-8318-400F-920A-C2641D781E5A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zeln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-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-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zo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zo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ynamisch unterstr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ynamisch unterstr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lö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lö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tz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tz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prim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prim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h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h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wärts an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wärts an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f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f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p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p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i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i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osse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osse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ogen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ogen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merang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merang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chs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chs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s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s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zeln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3-18T03:10:57Z</dcterms:modified>
  <cp:revision>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1</vt:r8>
  </property>
  <property fmtid="{D5CDD505-2E9C-101B-9397-08002B2CF9AE}" pid="3" name="Version">
    <vt:r8>10</vt:r8>
  </property>
</Properties>
</file>